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EBE1B-CC7F-4C92-A5B0-E2747E94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38F8C-B000-4021-88F8-0D070AB3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662CB-B0B3-4156-A823-22B52ACC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FDD29-29E3-484A-8383-4AF84790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DC44-C899-4BD1-AA92-414C15CC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8229-AC0E-4F7F-B68E-E291EE9F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262F-5A4C-444B-96DD-C3D4B978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6564-43C7-4019-9BBF-1375224D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EF03-E228-468F-A308-C39B8316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919B-E677-478A-B9D0-133ADC86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BB3D-F084-49E2-B95C-B315B6B6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82DCB-D013-47B3-BE56-2D1AD5CF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D53B-8217-466C-876D-AF07F7EF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B89A-F96C-45C1-800D-81F293D1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936A-27CE-465E-AA6E-B61647FE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49AC-8982-487B-97CD-AF8440E3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E295-492E-4B1B-9CC4-A6BA2CF0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A72C4-63BF-4A70-B1C1-61A1C46A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39CCF-C06B-4259-B6A5-FC481FCA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B3B7-2694-48D7-9212-B6D5E722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17B09-E874-4AFA-93B1-96A9EC46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F67B1-A83F-46E3-AE86-6522F0DF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0089C-C61F-4A39-979D-5C5AF923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2D38F-2044-4919-AE07-D2FA9C31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F9EA-94FF-4C5A-9922-70BCC7ABC1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19CE-E398-4AE9-945A-A5112DDC50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FGVX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FGVX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ipher involves to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b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ed by a transposi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stitution involves a 6 x 6 square where the rows and columns are labeled by the letters ADFGV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letters were selected because they are easy to distinguish as Morse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position is a simple column transposition based on a key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6BEE5-7B9D-4926-ABBC-3EB172333A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132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 letters and 10 digits are entered into a 6 x 6 matrix using a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86400" y="2971800"/>
            <a:ext cx="2786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D  F  G  V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1680" y="304812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eyword:  when2go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38200" y="35053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  h  e  n  2 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3657600"/>
            <a:ext cx="32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Enter the keyword and then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fill in the rest of the matrix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using the unused letters and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umbers in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4320" y="40705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  9  3  a  b 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4320" y="46036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 f  i  j  k 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2520" y="51595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  p  q  r  s 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33160" y="57150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  v  x  y  z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31360" y="625644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 4  5  6  7 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6953400" y="6272280"/>
            <a:ext cx="100944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1B130-95E3-4D5A-9617-0A78FF79B4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7400" y="1774440"/>
            <a:ext cx="7615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etter and number in the plaintext is replaced by the letters on the column and row headings of the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86400" y="2971800"/>
            <a:ext cx="2970360" cy="3660120"/>
            <a:chOff x="986400" y="2971800"/>
            <a:chExt cx="2970360" cy="3660120"/>
          </a:xfrm>
        </p:grpSpPr>
        <p:sp>
          <p:nvSpPr>
            <p:cNvPr id="130" name=""/>
            <p:cNvSpPr/>
            <p:nvPr/>
          </p:nvSpPr>
          <p:spPr>
            <a:xfrm>
              <a:off x="986400" y="2971800"/>
              <a:ext cx="278676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  D  F  G  V 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38200" y="350532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  h  e  n  2 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4320" y="407052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O  9  3  a  b  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4320" y="460368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  f  i  j  k  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2520" y="515952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  p  q  r  s  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33160" y="571500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  v  x  y  z  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31360" y="625644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  4  5  6  7  8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383720" y="4219560"/>
            <a:ext cx="408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text:   n   e   x   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iphertext:   AG  AF  VF  G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6975360" y="621972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44AE5-C886-463D-9C55-6F807B0139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485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column transposition with a keyword, the ciphertext is written in rows and then read in columns in a specified or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1120" y="4322880"/>
            <a:ext cx="168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 2 3 4 5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 F A G G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X G F X D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V A A D X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 G D G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 F G A V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0240" y="51786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57920" y="4707000"/>
            <a:ext cx="25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ad down columns in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 – 6 - 1- 2 – 5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27480" y="488484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FADG VXXGG AXVFA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GAGF GDXXV GXD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7083360" y="612468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4E2C8-2745-4BA1-A6C8-D3A5530F4C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80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for a column transposition is the number of columns and the order in which they are selected both of which are determined by a keywo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the keyword “general” defines a column transposition with 7 columns because it has 7 lett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fine the order of columns assign each letter a number based on its order in the alphab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19880" y="54118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g e n e r a 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6056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0812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296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5552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3224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4128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08320" y="6033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361800" y="60642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F0AEB-A907-4A0A-8AB0-5FCA5ADA94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33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DFGVX cipher from the cipher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27360" y="2962440"/>
            <a:ext cx="5691240" cy="3695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756480" y="3432240"/>
            <a:ext cx="1238040" cy="696960"/>
          </a:xfrm>
          <a:prstGeom prst="wedgeRoundRectCallout">
            <a:avLst>
              <a:gd name="adj1" fmla="val -42819"/>
              <a:gd name="adj2" fmla="val 1060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keyword sets up the 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2760" y="4452840"/>
            <a:ext cx="1384200" cy="851040"/>
          </a:xfrm>
          <a:prstGeom prst="wedgeRoundRectCallout">
            <a:avLst>
              <a:gd name="adj1" fmla="val -43578"/>
              <a:gd name="adj2" fmla="val 9589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keyword sets up column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193680" y="620568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AD1D1-1565-4237-B840-883F65546D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9T01:54:56Z</dcterms:modified>
  <cp:revision>40</cp:revision>
  <dc:subject/>
  <dc:title>CAP Cryptographic Analysis Program</dc:title>
</cp:coreProperties>
</file>